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DC0-E6BE-41C2-A976-DF54703B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EA7-657B-4DB9-A71C-72C4B0F4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DEA-F3F4-4348-9EDD-912FF8F1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A4C-3AD4-4DA1-8382-E34D1B97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4DB-F62B-4CB3-8215-F6E0BAC2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B9A-B43E-450E-85C0-A321D1F9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1C9-2783-4BB3-AE7A-0D8CB495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2F4-41E8-4FFE-BF84-0914C6CD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60D-2B93-4729-BF75-74CDA901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952-3A89-4C2A-B1DF-BFEF4A5C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CE7-040C-42EF-B624-212411B8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922-81AB-4CC4-9049-724FF37E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0314-A51E-4A75-8BD3-5B5D99E83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523880"/>
            <a:ext cx="670536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Unit 7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are you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3520" y="1142640"/>
            <a:ext cx="807696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’s your numb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宋体"/>
              </a:rPr>
              <a:t>545040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3124080" y="3200400"/>
            <a:ext cx="2438640" cy="295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6400800" y="3189240"/>
            <a:ext cx="16336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33520" y="1142640"/>
            <a:ext cx="807696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’s her numb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宋体"/>
              </a:rPr>
              <a:t>545040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971800" y="3367080"/>
            <a:ext cx="2822400" cy="26100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" descr=""/>
          <p:cNvPicPr/>
          <p:nvPr/>
        </p:nvPicPr>
        <p:blipFill>
          <a:blip r:embed="rId3"/>
          <a:stretch/>
        </p:blipFill>
        <p:spPr>
          <a:xfrm>
            <a:off x="6248520" y="3076560"/>
            <a:ext cx="17618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762120" y="1142640"/>
            <a:ext cx="670536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What’s his numbe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宋体"/>
              </a:rPr>
              <a:t>545040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3124080" y="3225960"/>
            <a:ext cx="2438640" cy="295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6418440" y="3659040"/>
            <a:ext cx="16333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762120" y="1142640"/>
            <a:ext cx="670536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Where are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宋体"/>
              </a:rPr>
              <a:t>I’m at hom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895480" y="3225960"/>
            <a:ext cx="2438640" cy="2957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3"/>
          <a:stretch/>
        </p:blipFill>
        <p:spPr>
          <a:xfrm>
            <a:off x="5494320" y="3868560"/>
            <a:ext cx="2249640" cy="16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762120" y="1142640"/>
            <a:ext cx="670536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Where are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宋体"/>
              </a:rPr>
              <a:t>I’m in the par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895480" y="3225960"/>
            <a:ext cx="2438640" cy="29574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" descr=""/>
          <p:cNvPicPr/>
          <p:nvPr/>
        </p:nvPicPr>
        <p:blipFill>
          <a:blip r:embed="rId3"/>
          <a:srcRect l="0" t="0" r="0" b="12105"/>
          <a:stretch/>
        </p:blipFill>
        <p:spPr>
          <a:xfrm>
            <a:off x="5562720" y="3990960"/>
            <a:ext cx="2819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762120" y="1142640"/>
            <a:ext cx="6705360" cy="22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Where are you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宋体"/>
              </a:rPr>
              <a:t>I’m at schoo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590920" y="3225960"/>
            <a:ext cx="2438280" cy="2957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" descr=""/>
          <p:cNvPicPr/>
          <p:nvPr/>
        </p:nvPicPr>
        <p:blipFill>
          <a:blip r:embed="rId3"/>
          <a:srcRect l="12700" t="13034" r="18257" b="17255"/>
          <a:stretch/>
        </p:blipFill>
        <p:spPr>
          <a:xfrm>
            <a:off x="5334120" y="3733920"/>
            <a:ext cx="2903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1160" y="990720"/>
            <a:ext cx="67816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7200" spc="-1" strike="noStrike">
                <a:solidFill>
                  <a:srgbClr val="000000"/>
                </a:solidFill>
                <a:latin typeface="宋体"/>
                <a:ea typeface="宋体"/>
              </a:rPr>
              <a:t>Sing</a:t>
            </a:r>
            <a:br>
              <a:rPr sz="7200"/>
            </a:br>
            <a:r>
              <a:rPr b="0" i="1" lang="en-US" sz="6600" spc="-1" strike="noStrike">
                <a:solidFill>
                  <a:srgbClr val="ff0000"/>
                </a:solidFill>
                <a:latin typeface="Times New Roman"/>
                <a:ea typeface="宋体"/>
              </a:rPr>
              <a:t>Where are you?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" descr=""/>
          <p:cNvPicPr/>
          <p:nvPr/>
        </p:nvPicPr>
        <p:blipFill>
          <a:blip r:embed="rId2"/>
          <a:stretch/>
        </p:blipFill>
        <p:spPr>
          <a:xfrm>
            <a:off x="5867280" y="914400"/>
            <a:ext cx="186084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1160" y="160020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7200"/>
            </a:br>
            <a:br>
              <a:rPr sz="72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Hello,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Zhou Lin!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Hello,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Zhou Lin!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’m at school! I’m at school!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ere are you? Where are you?</a:t>
            </a:r>
            <a:br>
              <a:rPr sz="3600"/>
            </a:br>
            <a:br>
              <a:rPr sz="36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12492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1160" y="160020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7200"/>
            </a:br>
            <a:br>
              <a:rPr sz="72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Hello,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Wang Li!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Hello, Wang Li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!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’m at home! I’m at home!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here are you? Where are you?</a:t>
            </a:r>
            <a:br>
              <a:rPr sz="3600"/>
            </a:br>
            <a:br>
              <a:rPr sz="36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124920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5360" y="1371600"/>
            <a:ext cx="81532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将重点词汇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，重点句型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和同桌将本课对话进行多次操练，直至熟练程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用英文记住家里的电话号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1676520"/>
            <a:ext cx="624852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7200" spc="-1" strike="noStrike">
                <a:solidFill>
                  <a:srgbClr val="000000"/>
                </a:solidFill>
                <a:latin typeface="宋体"/>
                <a:ea typeface="宋体"/>
              </a:rPr>
              <a:t>连线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Times New Roman"/>
                <a:ea typeface="宋体"/>
              </a:rPr>
              <a:t>Match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219240" y="0"/>
            <a:ext cx="95155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3" descr=""/>
          <p:cNvPicPr/>
          <p:nvPr/>
        </p:nvPicPr>
        <p:blipFill>
          <a:blip r:embed="rId2"/>
          <a:stretch/>
        </p:blipFill>
        <p:spPr>
          <a:xfrm>
            <a:off x="1981080" y="2365200"/>
            <a:ext cx="477360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90360" y="12952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numb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8"/>
          <p:cNvSpPr/>
          <p:nvPr/>
        </p:nvSpPr>
        <p:spPr>
          <a:xfrm>
            <a:off x="4114800" y="2362320"/>
            <a:ext cx="914400" cy="23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0"/>
          <p:cNvSpPr/>
          <p:nvPr/>
        </p:nvSpPr>
        <p:spPr>
          <a:xfrm flipV="1">
            <a:off x="3809880" y="2471400"/>
            <a:ext cx="144792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5418000" y="1600200"/>
            <a:ext cx="2194200" cy="2219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5418000" y="3922560"/>
            <a:ext cx="227808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990360" y="12952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schoo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ho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8"/>
          <p:cNvSpPr/>
          <p:nvPr/>
        </p:nvSpPr>
        <p:spPr>
          <a:xfrm>
            <a:off x="3657600" y="2502000"/>
            <a:ext cx="1219320" cy="20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0"/>
          <p:cNvSpPr/>
          <p:nvPr/>
        </p:nvSpPr>
        <p:spPr>
          <a:xfrm flipV="1">
            <a:off x="3505320" y="2501640"/>
            <a:ext cx="152388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2"/>
          <a:stretch/>
        </p:blipFill>
        <p:spPr>
          <a:xfrm>
            <a:off x="5029200" y="1284120"/>
            <a:ext cx="2408400" cy="223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5029200" y="3740040"/>
            <a:ext cx="240840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990360" y="12952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h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spea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8"/>
          <p:cNvSpPr/>
          <p:nvPr/>
        </p:nvSpPr>
        <p:spPr>
          <a:xfrm>
            <a:off x="2286000" y="2209680"/>
            <a:ext cx="295416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0"/>
          <p:cNvSpPr/>
          <p:nvPr/>
        </p:nvSpPr>
        <p:spPr>
          <a:xfrm flipV="1">
            <a:off x="3505320" y="2819520"/>
            <a:ext cx="20574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060280" cy="191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22129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1371240"/>
            <a:ext cx="678204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7200" spc="-1" strike="noStrike">
                <a:solidFill>
                  <a:srgbClr val="000000"/>
                </a:solidFill>
                <a:latin typeface="宋体"/>
                <a:ea typeface="宋体"/>
              </a:rPr>
              <a:t>对话练习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Times New Roman"/>
                <a:ea typeface="宋体"/>
              </a:rPr>
              <a:t>Dialogue Practice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6840" y="837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Hell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Hello. This is Wang Li. May I speak to Amy, plea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--OK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3433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837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Hell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Hello. This is Xiaojun. May I speak to Mary, plea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--OK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572000" y="3432240"/>
            <a:ext cx="35607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6840" y="8377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Hell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Hello. This is Jack. May I speak to Andy, plea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--OK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5029200" y="3962520"/>
            <a:ext cx="33433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0:34:34Z</dcterms:created>
  <dc:creator/>
  <dc:description/>
  <dc:language>en-US</dc:language>
  <cp:lastModifiedBy/>
  <dcterms:modified xsi:type="dcterms:W3CDTF">2015-07-24T06:59:25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